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.xml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34.xml"/><Relationship Id="rId3" Type="http://schemas.openxmlformats.org/officeDocument/2006/relationships/slide" Target="slide1.xml"/><Relationship Id="rId4" Type="http://schemas.openxmlformats.org/officeDocument/2006/relationships/slide" Target="slide6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25.xml"/><Relationship Id="rId8" Type="http://schemas.openxmlformats.org/officeDocument/2006/relationships/slide" Target="slide16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" Target="slide1.xml"/><Relationship Id="rId5" Type="http://schemas.openxmlformats.org/officeDocument/2006/relationships/slide" Target="slide6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1.xml"/><Relationship Id="rId7" Type="http://schemas.openxmlformats.org/officeDocument/2006/relationships/slide" Target="slide21.xml"/><Relationship Id="rId8" Type="http://schemas.openxmlformats.org/officeDocument/2006/relationships/slide" Target="slide1.xml"/><Relationship Id="rId9" Type="http://schemas.openxmlformats.org/officeDocument/2006/relationships/slide" Target="slide6.xml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slide" Target="slide16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1.xml"/><Relationship Id="rId4" Type="http://schemas.openxmlformats.org/officeDocument/2006/relationships/slide" Target="slide6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" Target="slide22.xml"/><Relationship Id="rId1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22.xml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22.xml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6.xml"/><Relationship Id="rId3" Type="http://schemas.openxmlformats.org/officeDocument/2006/relationships/slide" Target="slide30.xml"/><Relationship Id="rId4" Type="http://schemas.openxmlformats.org/officeDocument/2006/relationships/slide" Target="slide30.xml"/><Relationship Id="rId5" Type="http://schemas.openxmlformats.org/officeDocument/2006/relationships/slide" Target="slide1.xml"/><Relationship Id="rId6" Type="http://schemas.openxmlformats.org/officeDocument/2006/relationships/slide" Target="slide6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25.xml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slide" Target="slide27.xml"/><Relationship Id="rId5" Type="http://schemas.openxmlformats.org/officeDocument/2006/relationships/slide" Target="slide1.xml"/><Relationship Id="rId6" Type="http://schemas.openxmlformats.org/officeDocument/2006/relationships/slide" Target="slide6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25.xml"/><Relationship Id="rId12" Type="http://schemas.openxmlformats.org/officeDocument/2006/relationships/slide" Target="slide26.xml"/><Relationship Id="rId1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9.xml"/><Relationship Id="rId5" Type="http://schemas.openxmlformats.org/officeDocument/2006/relationships/slide" Target="slide1.xml"/><Relationship Id="rId6" Type="http://schemas.openxmlformats.org/officeDocument/2006/relationships/slide" Target="slide6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25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25.xml"/><Relationship Id="rId8" Type="http://schemas.openxmlformats.org/officeDocument/2006/relationships/slide" Target="slide26.xml"/><Relationship Id="rId9" Type="http://schemas.openxmlformats.org/officeDocument/2006/relationships/slide" Target="slide27.xml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25.xml"/><Relationship Id="rId8" Type="http://schemas.openxmlformats.org/officeDocument/2006/relationships/slide" Target="slide26.xml"/><Relationship Id="rId9" Type="http://schemas.openxmlformats.org/officeDocument/2006/relationships/slide" Target="slide27.xm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1.xml"/><Relationship Id="rId8" Type="http://schemas.openxmlformats.org/officeDocument/2006/relationships/slide" Target="slide2.xml"/><Relationship Id="rId9" Type="http://schemas.openxmlformats.org/officeDocument/2006/relationships/slide" Target="slide3.xml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25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3.xml"/><Relationship Id="rId11" Type="http://schemas.openxmlformats.org/officeDocument/2006/relationships/slide" Target="slide32.xml"/><Relationship Id="rId12" Type="http://schemas.openxmlformats.org/officeDocument/2006/relationships/slide" Target="slide32.xml"/><Relationship Id="rId13" Type="http://schemas.openxmlformats.org/officeDocument/2006/relationships/slide" Target="slide31.xml"/><Relationship Id="rId14" Type="http://schemas.openxmlformats.org/officeDocument/2006/relationships/slide" Target="slide31.xml"/><Relationship Id="rId15" Type="http://schemas.openxmlformats.org/officeDocument/2006/relationships/slide" Target="slide31.xml"/><Relationship Id="rId1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25.xml"/><Relationship Id="rId8" Type="http://schemas.openxmlformats.org/officeDocument/2006/relationships/slide" Target="slide30.xml"/><Relationship Id="rId9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25.xml"/><Relationship Id="rId8" Type="http://schemas.openxmlformats.org/officeDocument/2006/relationships/slide" Target="slide30.xml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25.xml"/><Relationship Id="rId8" Type="http://schemas.openxmlformats.org/officeDocument/2006/relationships/slide" Target="slide30.xml"/><Relationship Id="rId9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5.xml"/><Relationship Id="rId3" Type="http://schemas.openxmlformats.org/officeDocument/2006/relationships/slide" Target="slide35.xml"/><Relationship Id="rId4" Type="http://schemas.openxmlformats.org/officeDocument/2006/relationships/slide" Target="slide1.xml"/><Relationship Id="rId5" Type="http://schemas.openxmlformats.org/officeDocument/2006/relationships/slide" Target="slide6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34.xml"/><Relationship Id="rId10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6.xml"/><Relationship Id="rId3" Type="http://schemas.openxmlformats.org/officeDocument/2006/relationships/slide" Target="slide37.xml"/><Relationship Id="rId4" Type="http://schemas.openxmlformats.org/officeDocument/2006/relationships/slide" Target="slide1.xml"/><Relationship Id="rId5" Type="http://schemas.openxmlformats.org/officeDocument/2006/relationships/slide" Target="slide6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34.xml"/><Relationship Id="rId10" Type="http://schemas.openxmlformats.org/officeDocument/2006/relationships/slide" Target="slide35.xml"/><Relationship Id="rId11" Type="http://schemas.openxmlformats.org/officeDocument/2006/relationships/slide" Target="slide35.xml"/><Relationship Id="rId1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34.xml"/><Relationship Id="rId7" Type="http://schemas.openxmlformats.org/officeDocument/2006/relationships/slide" Target="slide35.xml"/><Relationship Id="rId8" Type="http://schemas.openxmlformats.org/officeDocument/2006/relationships/slide" Target="slide35.xml"/><Relationship Id="rId9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34.xml"/><Relationship Id="rId7" Type="http://schemas.openxmlformats.org/officeDocument/2006/relationships/slide" Target="slide35.xml"/><Relationship Id="rId8" Type="http://schemas.openxmlformats.org/officeDocument/2006/relationships/slide" Target="slide35.xm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.xml"/><Relationship Id="rId10" Type="http://schemas.openxmlformats.org/officeDocument/2006/relationships/slide" Target="slide6.xml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nicht-neurolog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100" idx="3"/>
            <a:endCxn id="101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0" idx="3"/>
            <a:endCxn id="98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inkontin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0800" y="549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rninkontin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eurolog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tzündung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tielle Obstr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8920" y="549360"/>
            <a:ext cx="66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icht-neurolog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rndrang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ntzündung/partielle Obstr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0" idx="3"/>
            <a:endCxn id="16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LUTD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rolithiasis,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akteriel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arnwegs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arnwegstumor,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stat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statahypertrophie,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statakarzinom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4520" y="639684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LUTD = Feline-Lower-Urinary-Tract-Dise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7" idx="3"/>
            <a:endCxn id="168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ehlend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rhöhtes Harnvolum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ei PD/P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31480" y="549360"/>
            <a:ext cx="76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nicht-neurolog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fehlende 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rhöhtes Harnvolum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9120" y="63968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imäre P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imäre P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5" idx="3"/>
            <a:endCxn id="172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76" name=""/>
          <p:cNvCxnSpPr>
            <a:stCxn id="175" idx="3"/>
            <a:endCxn id="173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77" name=""/>
          <p:cNvSpPr/>
          <p:nvPr/>
        </p:nvSpPr>
        <p:spPr>
          <a:xfrm>
            <a:off x="1131480" y="549360"/>
            <a:ext cx="76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icht-neurolog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fehlende 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erhöhtes Harnvolum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ei PD/P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9120" y="5910120"/>
            <a:ext cx="275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 = Polydips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i PD/P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märe P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31480" y="549360"/>
            <a:ext cx="76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icht-neurolog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ehlende 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rhöhtes Harnvolum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80" idx="3"/>
            <a:endCxn id="183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84" name=""/>
          <p:cNvCxnSpPr>
            <a:stCxn id="180" idx="3"/>
            <a:endCxn id="185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DH-vermittel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0" idx="3"/>
            <a:endCxn id="186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osmotisch wirksam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Teil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ktionsverlust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Nephr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2360" y="591012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unktionsverlust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phr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1480" y="549360"/>
            <a:ext cx="769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icht-neurolog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ehlende 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rhöhtes Harnvolum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bei PD/PU &gt; primäre PU &gt; Funktionsverlust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ephr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ku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0" idx="3"/>
            <a:endCxn id="192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94" name=""/>
          <p:cNvCxnSpPr>
            <a:stCxn id="190" idx="3"/>
            <a:endCxn id="195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95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9120" y="615348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ku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4480" y="549360"/>
            <a:ext cx="82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arninkontinenz &gt; nicht-neurologische Ursache  &gt; fehlende 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erhöhtes Harnvolumen &gt; bei PD/PU &gt; primäre PU &gt; Funktionsverlust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Nephronen &gt; akute 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8" idx="3"/>
            <a:endCxn id="20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ptospir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ypox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z. B. in Narkose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ufnahme von Toxi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z. B. Ethylenglyko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Rosinen, Weintrauben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9120" y="5910120"/>
            <a:ext cx="275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smotisch wirksam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eil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im Harn zu vi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m Nierenmark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zu weni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4" idx="3"/>
            <a:endCxn id="20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08" name=""/>
          <p:cNvCxnSpPr>
            <a:stCxn id="204" idx="3"/>
            <a:endCxn id="20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1095840" y="549360"/>
            <a:ext cx="78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nicht-neurolog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fehlende 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rhöhtes Harnvolum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Einfluss von osmo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wirksamen Teil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9120" y="615348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m Harn zu vi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atriu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2" idx="3"/>
            <a:endCxn id="21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16" name=""/>
          <p:cNvCxnSpPr>
            <a:stCxn id="212" idx="3"/>
            <a:endCxn id="21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6021360" y="1494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Gluk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(Glukosuri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21360" y="55468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smo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wirksa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Medikamen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2" idx="3"/>
            <a:endCxn id="217" idx="1"/>
          </p:cNvCxnSpPr>
          <p:nvPr/>
        </p:nvCxnSpPr>
        <p:spPr>
          <a:xfrm flipV="1">
            <a:off x="3312720" y="2055600"/>
            <a:ext cx="2699640" cy="202608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20" name=""/>
          <p:cNvCxnSpPr>
            <a:stCxn id="212" idx="3"/>
            <a:endCxn id="218" idx="1"/>
          </p:cNvCxnSpPr>
          <p:nvPr/>
        </p:nvCxnSpPr>
        <p:spPr>
          <a:xfrm>
            <a:off x="3312720" y="4081320"/>
            <a:ext cx="2699640" cy="202824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1095840" y="549360"/>
            <a:ext cx="78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nicht-neurolog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fehlende 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erhöhtes Harnvolum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Einfluss von osmo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5" action="ppaction://hlinksldjump"/>
              </a:rPr>
              <a:t>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6" action="ppaction://hlinksldjump"/>
              </a:rPr>
              <a:t>im Harn zu vi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9120" y="615348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Glukosuri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95840" y="549360"/>
            <a:ext cx="78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icht-neurolog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ehlende 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rhöhtes Harnvolum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influss von osmo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im Harn zu vi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Glukose (Glukosuri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4" idx="3"/>
            <a:endCxn id="22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2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betes mellit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anconi-Syndr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ädig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ubulusepithel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z. B. durch Nephrotoxine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9120" y="5910120"/>
            <a:ext cx="275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95840" y="549360"/>
            <a:ext cx="78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icht-neurolog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ehlende 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rhöhtes Harnvolum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influss von osmo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im Harn zu vi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0" idx="3"/>
            <a:endCxn id="23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3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st-obstruktive Diure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z. B. nach FLUTD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 Niereninsuffizienz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4520" y="5692320"/>
            <a:ext cx="4287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LUTD = Feline-Lower-Urinary-Tract-Dise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6" idx="3"/>
            <a:endCxn id="107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urolog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UMN-Bl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8360" y="549360"/>
            <a:ext cx="44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neurologische 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4880" y="6396840"/>
            <a:ext cx="342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UMN = unteres motorisches Neur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triu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5840" y="549360"/>
            <a:ext cx="78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icht-neurolog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ehlende 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rhöhtes Harnvolum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influss von osmo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im Harn zu vi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Natriu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6" idx="3"/>
            <a:endCxn id="23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adrenokortizismu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smo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irksa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dikamen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95840" y="549360"/>
            <a:ext cx="78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icht-neurolog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ehlende 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rhöhtes Harnvolum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influss von osmo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im Harn zu vi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osmotisch wirksame Medikamen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2" idx="3"/>
            <a:endCxn id="24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4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 Mannitol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m Nierenmark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u weni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atriu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8" idx="3"/>
            <a:endCxn id="249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52" name=""/>
          <p:cNvCxnSpPr>
            <a:stCxn id="248" idx="3"/>
            <a:endCxn id="250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1095840" y="549360"/>
            <a:ext cx="78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icht-neurolog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fehlende 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erhöhtes Harnvolum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Einfluss von osmo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im Nierenmark zu weni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95840" y="549360"/>
            <a:ext cx="78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icht-neurolog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ehlende 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rhöhtes Harnvolum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influss von osmo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im Nierenmark zu wen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56" idx="3"/>
            <a:endCxn id="25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5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dullary-washout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funktionsstörung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triu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95840" y="549360"/>
            <a:ext cx="78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icht-neurolog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ehlende 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rhöhtes Harnvolum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influss von osmo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im Nierenmark zu wen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Natriu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2" idx="3"/>
            <a:endCxn id="26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6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dullary-washout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triumarmes Futte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H-vermittel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zentr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iabetes 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nephroge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Diabetes 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68" idx="3"/>
            <a:endCxn id="269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72" name=""/>
          <p:cNvCxnSpPr>
            <a:stCxn id="268" idx="3"/>
            <a:endCxn id="270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73" name=""/>
          <p:cNvSpPr/>
          <p:nvPr/>
        </p:nvSpPr>
        <p:spPr>
          <a:xfrm>
            <a:off x="1131480" y="549360"/>
            <a:ext cx="76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nicht-neurolog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fehlende 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erhöhtes Harnvolum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ADH-vermittel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ntr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betes 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ekundär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zentr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Diabe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stCxn id="276" idx="3"/>
            <a:endCxn id="279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80" name=""/>
          <p:cNvCxnSpPr>
            <a:stCxn id="276" idx="3"/>
            <a:endCxn id="27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mär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ntr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31480" y="549360"/>
            <a:ext cx="769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nicht-neurolog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fehlende 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erhöhtes Harnvolum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ADH-vermitte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zentraler Diabetes 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kundär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ntr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DH-Bildung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2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DH-Freisetzung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4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84" idx="3"/>
            <a:endCxn id="28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88" name=""/>
          <p:cNvCxnSpPr>
            <a:stCxn id="284" idx="3"/>
            <a:endCxn id="28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89" name=""/>
          <p:cNvSpPr/>
          <p:nvPr/>
        </p:nvSpPr>
        <p:spPr>
          <a:xfrm>
            <a:off x="1131480" y="549360"/>
            <a:ext cx="769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nicht-neurolog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fehlende 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erhöhtes Harnvolum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ADH-vermitte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zentraler Diabetes insipidu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sekundärer zentraler Diabetes 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H-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31480" y="549360"/>
            <a:ext cx="769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icht-neurolog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ehlende 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rhöhtes Harnvolum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DH-vermitte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zentraler Diabetes insipidu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ekundärer zentraler Diabetes insipidu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DH-Bildung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94" name=""/>
          <p:cNvCxnSpPr>
            <a:stCxn id="292" idx="3"/>
            <a:endCxn id="29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9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cephal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um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oplas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H-Freisetz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31480" y="549360"/>
            <a:ext cx="769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icht-neurolog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ehlende 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rhöhtes Harnvolum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DH-vermitte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zentraler Diabetes insipidu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ekundärer zentraler Diabetes insipidu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DH-Freisetzung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298" idx="3"/>
            <a:endCxn id="30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0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kortiko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kali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fnahme von Alkohol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MN-Bl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11" idx="3"/>
            <a:endCxn id="113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4" name=""/>
          <p:cNvCxnSpPr>
            <a:stCxn id="111" idx="3"/>
            <a:endCxn id="115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6" name=""/>
          <p:cNvCxnSpPr>
            <a:stCxn id="111" idx="3"/>
            <a:endCxn id="117" idx="1"/>
          </p:cNvCxnSpPr>
          <p:nvPr/>
        </p:nvCxnSpPr>
        <p:spPr>
          <a:xfrm>
            <a:off x="3313080" y="4080960"/>
            <a:ext cx="2689920" cy="1351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Detrusordysfun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Läsion des Rücken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arks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 bei S1-S3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Läs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Cauda equina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27800" y="549360"/>
            <a:ext cx="58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neurolog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UMN-Bl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12000" y="486900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ysautono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4880" y="6153480"/>
            <a:ext cx="34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UMN = unteres motorisches Neur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 = Schwanzwirb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phroge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betes 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31480" y="549360"/>
            <a:ext cx="769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icht-neurolog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ehlende 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rhöhtes Harnvolum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DH-vermitte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nephrogener Diabetes 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06" name=""/>
          <p:cNvCxnSpPr>
            <a:stCxn id="304" idx="3"/>
            <a:endCxn id="307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08" name=""/>
          <p:cNvCxnSpPr>
            <a:stCxn id="304" idx="3"/>
            <a:endCxn id="309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10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Zer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ADH-Rezep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04" idx="3"/>
            <a:endCxn id="310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kompetitive Hemm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des AD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angeborener Mangel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Fehlfunk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5" action="ppaction://hlinksldjump"/>
              </a:rPr>
              <a:t>ADH-Rezep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geborener Mangel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ehlfunk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H-Rezep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31480" y="549360"/>
            <a:ext cx="769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icht-neurolog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ehlende 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rhöhtes Harnvolum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DH-vermitte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nephrogener Diabetes insipidu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angeborener Mangel/Fehlfunk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DH-Rezep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16" name=""/>
          <p:cNvCxnSpPr>
            <a:stCxn id="314" idx="3"/>
            <a:endCxn id="317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17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mär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phroge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ompetitive Hemm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 AD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31480" y="549360"/>
            <a:ext cx="769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icht-neurolog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ehlende 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rhöhtes Harnvolum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DH-vermitte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nephrogener Diabetes insipidu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kompetitive Hemmung des AD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22" name=""/>
          <p:cNvCxnSpPr>
            <a:stCxn id="320" idx="3"/>
            <a:endCxn id="32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scherichia-coli-Toxin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kalz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kortiko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fnahme von Koffei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r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H-Rezep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131480" y="549360"/>
            <a:ext cx="769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icht-neurolog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ehlende 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rhöhtes Harnvolum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DH-vermitte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nephrogener Diabetes insipidu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Zerstörung der ADH-Rezep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6" idx="3"/>
            <a:endCxn id="32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2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kali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insuffizienz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märe P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eeinfluss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Durstzentru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34" name=""/>
          <p:cNvCxnSpPr>
            <a:stCxn id="332" idx="3"/>
            <a:endCxn id="335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36" name=""/>
          <p:cNvCxnSpPr>
            <a:stCxn id="332" idx="3"/>
            <a:endCxn id="333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sycho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nur beim Hund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131480" y="549360"/>
            <a:ext cx="76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nicht-neurolog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fehlende 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rhöhtes Harnvolum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primäre P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 = Polydips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einfluss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rstzentru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äsion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ypothalam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imulie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340" idx="3"/>
            <a:endCxn id="34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44" name=""/>
          <p:cNvCxnSpPr>
            <a:stCxn id="340" idx="3"/>
            <a:endCxn id="34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45" name=""/>
          <p:cNvSpPr/>
          <p:nvPr/>
        </p:nvSpPr>
        <p:spPr>
          <a:xfrm>
            <a:off x="1131480" y="549360"/>
            <a:ext cx="769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nicht-neurolog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fehlende 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rhöhtes Harnvolum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primäre P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Beeinfluss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Durstzentru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 = Polydips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äsion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thalam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31480" y="549360"/>
            <a:ext cx="769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icht-neurolog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ehlende 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rhöhtes Harnvolum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eeinfluss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Durstzentrum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Läsion des Hypothalam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8" idx="3"/>
            <a:endCxn id="35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5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um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cephaliti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 = Polydips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imulie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31480" y="549360"/>
            <a:ext cx="769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icht-neurolog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ehlende 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rhöhtes Harnvolum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eeinfluss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Durstzentrum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stimulie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56" name=""/>
          <p:cNvCxnSpPr>
            <a:stCxn id="354" idx="3"/>
            <a:endCxn id="35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ammo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bei Leberinsuffizienz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kalz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thyre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 = Polydips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äsion des Rücken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rks bei S1-S3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äs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uda equina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72800" y="549360"/>
            <a:ext cx="72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eurolog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UMN-Bl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Läsion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ückenmarks bei S1-S3/Läsion der Cauda equina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1" idx="3"/>
            <a:endCxn id="12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andscheibenvorfal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rauma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z. B. Schwanzabris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akrumfraktu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Wirbelfraktur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iskospondyliti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4880" y="5910120"/>
            <a:ext cx="342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UMN = unteres motorisches Neur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 = Schwanzwirb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trusordysfun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27080" y="549360"/>
            <a:ext cx="60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eurolog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UMN-Bl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trusordysfun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7" idx="3"/>
            <a:endCxn id="13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chron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Überdehnungsbla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4880" y="6396840"/>
            <a:ext cx="342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UMN = unteres motorisches Neur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cht-neurolog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natom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rndra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3" idx="3"/>
            <a:endCxn id="134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7" name=""/>
          <p:cNvCxnSpPr>
            <a:stCxn id="133" idx="3"/>
            <a:endCxn id="13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8" name=""/>
          <p:cNvSpPr/>
          <p:nvPr/>
        </p:nvSpPr>
        <p:spPr>
          <a:xfrm>
            <a:off x="6012000" y="1494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orm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21360" y="55468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fehlend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erhöhtes Harnvolum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3" idx="3"/>
            <a:endCxn id="138" idx="1"/>
          </p:cNvCxnSpPr>
          <p:nvPr/>
        </p:nvCxnSpPr>
        <p:spPr>
          <a:xfrm flipV="1">
            <a:off x="3313080" y="2055600"/>
            <a:ext cx="2689920" cy="2026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1" name=""/>
          <p:cNvCxnSpPr>
            <a:stCxn id="133" idx="3"/>
            <a:endCxn id="139" idx="1"/>
          </p:cNvCxnSpPr>
          <p:nvPr/>
        </p:nvCxnSpPr>
        <p:spPr>
          <a:xfrm>
            <a:off x="3312720" y="4081320"/>
            <a:ext cx="2699640" cy="202824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1040760" y="549360"/>
            <a:ext cx="49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nicht-neurologische 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orm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720" y="549360"/>
            <a:ext cx="75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icht-neurolog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Einfluss von Horm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4" idx="3"/>
            <a:endCxn id="14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Östrogen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z. B. nach Kastration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atom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18160" y="549360"/>
            <a:ext cx="744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icht-neurolog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anatomische 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0" idx="3"/>
            <a:endCxn id="15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ktopischer Urete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rethrafiste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vaginale Fehlbildung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6" idx="3"/>
            <a:endCxn id="157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dra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ntzündung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artielle Obstr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280" y="549360"/>
            <a:ext cx="649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rninkontinenz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icht-neurologische Ursach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arndra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9T12:34:05Z</dcterms:modified>
  <cp:revision>333</cp:revision>
  <dc:subject/>
  <dc:title>Vorstellung einer Neuheit</dc:title>
</cp:coreProperties>
</file>